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B56D-5C6F-410D-A0DD-F730DD7B31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CC4-68BD-43BA-A817-AD9F38CE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D6A-87C1-4397-A87F-E280225C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69F-4BDE-4535-A9AD-BCA6006D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E29-3804-4264-9ECD-BA4FB9DB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BDD-A443-4806-B262-D494DE0B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5D46-3216-459C-BD6B-C6DA6B09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A6B5-4392-4A05-B475-31FD8824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204F-24F8-407E-87B5-02E54AD6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F53D-3F69-4221-8135-60FAA21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92A2-3432-4C83-9156-49444727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51BA-EA8F-42FA-9CF0-DA2D1924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183-213C-4559-87E8-530DEC85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6C2A-3F7F-48F2-A7D8-CAF5A859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0FD5-54D7-4A8B-B65A-214F2E0D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1EBA-0D5B-440F-A408-CF5C460A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0D63-0E4D-4F78-AC19-C2050880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8C0F-F4CD-4868-8609-1F8C96E4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9A8-BC65-438A-98F6-96902A79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94A-D6E5-493F-8AC3-E26A30C5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431-FDB4-4CC1-A991-52FA4C6A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2EC-77BA-4747-B08A-7A789CA4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A75-986F-418D-A72F-40D979FC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AC7-4B3B-4423-9D7B-F5A424A1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8B6-F5A4-4CE7-96C8-D373B2AC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B438-9E04-4C57-8A82-55BBA2B2B0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2DD8-B914-4914-A075-010351D849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verpool lat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6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giv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seen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your response –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do not say that it’s boring or cra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 (FITCLAS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Of Mice and M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Blood Br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answer Question 1a, it is based on an extract inclu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can answer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Question 1b or Question 1c these relate to the novel as a wh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neliness –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onely in so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44Z</dcterms:modified>
  <cp:revision>7</cp:revision>
  <dc:subject/>
  <dc:title>GCSE English literature</dc:title>
</cp:coreProperties>
</file>